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17.gif" ContentType="image/gif"/>
  <Override PartName="/ppt/media/image25.jpeg" ContentType="image/jpeg"/>
  <Override PartName="/ppt/media/image22.gif" ContentType="image/gif"/>
  <Override PartName="/ppt/media/image14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5132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54760" cy="47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87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187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187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1878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B5C4F-EF20-4F5C-A3D5-B6D7BEC64FB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2576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336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844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360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844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360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F7E-F28C-47CE-8360-64673388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977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2DA-43B8-462A-97C9-7EF5794D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977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CD3-2BFF-41CD-90DF-EFACB82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918-2E33-4C36-A03A-CF3E79D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20F-A48B-496E-80C6-1CDBFEF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77560"/>
            <a:ext cx="897732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262-A343-401E-98C2-B6893F1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863-7954-4766-B549-E7ACAEFC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977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336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770-E8BB-4D66-A051-3EAC708B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645-CCFB-428E-BDC3-0F8B2F5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2576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5D5-45B5-4D38-82F3-650495CD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336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164-C5A5-47E3-BA0A-47D77843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844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73600" y="176832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844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73600" y="4325760"/>
            <a:ext cx="28904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DAA-6E79-4514-98EF-BD6823C9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977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77560"/>
            <a:ext cx="897732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3360" y="432576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3360" y="1768320"/>
            <a:ext cx="438084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25760"/>
            <a:ext cx="8977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140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140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77560"/>
            <a:ext cx="897732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977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25432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0212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25432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7D49-5BE3-49A7-BD31-14D212C2DB89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strosurf.com/buil/iris/iris.htm" TargetMode="External"/><Relationship Id="rId2" Type="http://schemas.openxmlformats.org/officeDocument/2006/relationships/hyperlink" Target="http://www.hristopavlov.net/" TargetMode="External"/><Relationship Id="rId3" Type="http://schemas.openxmlformats.org/officeDocument/2006/relationships/hyperlink" Target="http://eos-movrec.sourceforge.net/" TargetMode="External"/><Relationship Id="rId4" Type="http://schemas.openxmlformats.org/officeDocument/2006/relationships/hyperlink" Target="http://www.magiclantern.fm/" TargetMode="External"/><Relationship Id="rId5" Type="http://schemas.openxmlformats.org/officeDocument/2006/relationships/hyperlink" Target="http://david.alleysson.free.fr/" TargetMode="External"/><Relationship Id="rId6" Type="http://schemas.openxmlformats.org/officeDocument/2006/relationships/hyperlink" Target="http://dougkerr.net/Pumpkin/articles/Subsampling.pdf" TargetMode="External"/><Relationship Id="rId7" Type="http://schemas.openxmlformats.org/officeDocument/2006/relationships/hyperlink" Target="http://www.baslerweb.com/media/documents/BAS1401_White_Paper_Rolling-Shutter_en.pdf" TargetMode="External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005.upp.so-net.ne.jp/k_miyash/occ02/limovie_en.html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www.astro-rennes.com/la_une/archives/archives_2009/phemu_1809.pdf" TargetMode="External"/><Relationship Id="rId4" Type="http://schemas.openxmlformats.org/officeDocument/2006/relationships/hyperlink" Target="http://www.imcce.fr/fr/observateur/campagnes_obs/phemu09/notes_tech/note06-fr.php" TargetMode="External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E:/Users/Famille/Documents/Astronomie/2014-03-29 WETO 2014/Images/RollingShutter.avi" TargetMode="External"/><Relationship Id="rId3" Type="http://schemas.microsoft.com/office/2007/relationships/media" Target="file:///E:/Users/Famille/Documents/Astronomie/2014-03-29 WETO 2014/Images/RollingShutter.avi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02920" y="184320"/>
            <a:ext cx="9048600" cy="634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Observer les PHEMUs avec un A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Christian Drillaud – WET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6000" y="792000"/>
            <a:ext cx="3600360" cy="368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39760" y="4670280"/>
            <a:ext cx="3600360" cy="2087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91280" y="1440000"/>
            <a:ext cx="3600360" cy="2027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9280" y="6191280"/>
            <a:ext cx="2170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Courbe de rotation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l’astéroïde (800) Kressman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© Romain Montaigut -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6360" y="1079640"/>
            <a:ext cx="2016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Transit HD189733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© Emmanuel Conseil - 20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7640" y="2982960"/>
            <a:ext cx="2181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Courbe photométrique RR Ly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© Christian Drillaud - 20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91280" y="3959280"/>
            <a:ext cx="3600360" cy="2120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983280" y="6227640"/>
            <a:ext cx="2952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Io éclipse puis occulte 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100" spc="-1" strike="noStrike">
                <a:solidFill>
                  <a:srgbClr val="800000"/>
                </a:solidFill>
                <a:latin typeface="Arial"/>
                <a:ea typeface="Microsoft YaHei"/>
              </a:rPr>
              <a:t>© Société Astronomique de Rennes -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89931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Résolution en magnitude (1/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9931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Notre premier objectif est de vérifier, compte-tenu de la dégradation de l'information, si le volume du flux enregistré est proportionnel au temps de pose et à la sensibilité cho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e mode vidéo natif d'un APN permet d'ajuster le temps de pose entre la vitesse la plus rapide du boîtier et la cadence de la vidéo (exemple : cadence 25 im./s, temps de pose max = 1/30 se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e mode LiveView autorise l'utilisation de vitesse plus lente que la cadence des images (ce qui suppose un artefact de trait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haque mode permet d'exploiter l'ensemble des sensibilités offertes par l'A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Résolution en magnitude (2/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0360" y="1262160"/>
            <a:ext cx="936000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a proportionnalité est vérifiée dans le mode Liv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276120" algn="just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e niveau maximum de flux en mode LiveView peut être plafonnée, par le boîtier, à un seuil inférieur à la 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33520" y="1890720"/>
            <a:ext cx="719928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899316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Résolution en magnitude (3/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2920" y="1515960"/>
            <a:ext cx="89931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461160" indent="-171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ne observation, réalisée en mode natif, de la sortie de l'ombre de Jupiter de Io, a permis d'estimer la courbe 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08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160" indent="-171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e résultat est similaire à ceux obtenus lors de simulations (occultations manuelles de Jupiter) en mode Liv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63640" y="2446200"/>
            <a:ext cx="62024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Exploitation d'une vidéo n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4720" y="3060720"/>
            <a:ext cx="468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e 01/03/2014 à 22h58 TU, Io sort de l'ombre de 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OS 500D au foyer d'un C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adence : 20 im.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Temps de pose : 1/25 sec. 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ensibilité : 1600 ISO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Fichier QuickTime/H264 (~100 Mo par minute) décodé (Avi/Bitmap_RGB) par Avs4You (~7 Go par min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435640" y="303696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984240" y="1224000"/>
            <a:ext cx="8086680" cy="1685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052720" y="1763640"/>
            <a:ext cx="674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2627280"/>
            <a:ext cx="928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Ganymè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84480" y="1581120"/>
            <a:ext cx="309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1860480"/>
            <a:ext cx="680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507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Analyse d'une vidéo avec TANG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20" y="1379520"/>
            <a:ext cx="10078920" cy="566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920" y="1379520"/>
            <a:ext cx="10078920" cy="56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277920"/>
            <a:ext cx="899640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La même chose avec 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2840" y="1511280"/>
            <a:ext cx="7656480" cy="5759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11160" y="2206800"/>
            <a:ext cx="10078920" cy="45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277920"/>
            <a:ext cx="8996400" cy="12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996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de vidéo natif d'un APN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cessite une conversion de format (.mov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.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olution temporelle sans dérive, ni g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olution en magnitude : 0,1 mag à mag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01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iveView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t être traité dans son format d'enregistrement (.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olution temporelle avec une gigue (+/- 50 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488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647640"/>
                <a:tab algn="l" pos="1096920"/>
                <a:tab algn="l" pos="1546200"/>
                <a:tab algn="l" pos="1995480"/>
                <a:tab algn="l" pos="2444760"/>
                <a:tab algn="l" pos="2894040"/>
                <a:tab algn="l" pos="3343320"/>
                <a:tab algn="l" pos="3792600"/>
                <a:tab algn="l" pos="4241880"/>
                <a:tab algn="l" pos="4691160"/>
                <a:tab algn="l" pos="5140440"/>
                <a:tab algn="l" pos="5589720"/>
                <a:tab algn="l" pos="6039000"/>
                <a:tab algn="l" pos="6488280"/>
                <a:tab algn="l" pos="6937200"/>
                <a:tab algn="l" pos="7386480"/>
                <a:tab algn="l" pos="7835760"/>
                <a:tab algn="l" pos="8285040"/>
                <a:tab algn="l" pos="8734320"/>
                <a:tab algn="l" pos="9183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olution en magnitude : &lt; 0,1 mag à mag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507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Réfé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360" y="1349280"/>
            <a:ext cx="93600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RIS : L'outil de Christian Buil pour le traitement des images d'astronom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astrosurf.com/buil/iris/iri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ANGRA : Le logiciel d'analyse photométrique des vidéos de Hristo Pavl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hristopavlov.ne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OS Camera Movie Record : Pour enregistrer le flux Liv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os-movrec.sourceforge.ne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gic Lantern : Le add-on pour étendre le mode vidéo d'un APN Can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agiclantern.f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articles de David Alleysson pour tout savoir sur le « démosaï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g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avid.alleysson.free.fr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'article de Douglass Kerr sur le sous-échantillonnage chroma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dougkerr.net/Pumpkin/articles/Subsampling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'article de Basler sur les différents modes d'obt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www.baslerweb.com/media/documents/BAS1401_White_Paper_Rolling-Shutter_en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507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PHEMU 2009 : Une observation ré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6880" y="1276200"/>
            <a:ext cx="908676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20760" indent="-28584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ette observation a été réalisée par la Société Astronomique de Rennes, le 17/08/2009 avec une webcam PL1M derrière un newton T200 F/D8 (barlow x2). Cette nuit-là, Io occultait, puis éclipsait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28584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e phénomène a été enregistré avec des poses de 0.8s (gain = 2%), toutes les 10 secondes à l'aide de QGVideo. Le traitement de la séquence AVI a été réalisé à l'aide de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Limo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28584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a « calibration » du phénomène en utilisant le flux de Callisto comme référence, rend possible la mesure de variation du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824360" y="4248000"/>
            <a:ext cx="5046840" cy="2880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9280" y="7118280"/>
            <a:ext cx="989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Société d'Astronomie de Rennes : </a:t>
            </a: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astro-rennes.com/la_une/archives/archives_2009/phemu_1809.p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IMCCE - Exemple de courbes :</a:t>
            </a:r>
            <a:r>
              <a:rPr b="0" lang="fr-FR" sz="1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imcce.fr/fr/observateur/campagnes_obs/phemu09/notes_tech/note06-fr.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0040" y="4079880"/>
            <a:ext cx="4324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20760" indent="-28584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chute de magnitude calculée est de 0,59 mag +/- 0,07mag, a comparer à la variation de 0,624 annoncé par l'IMC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28584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9304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e manque que la datation pour être totalement exploitable par les professio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000" y="6912000"/>
            <a:ext cx="18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3635280"/>
            <a:ext cx="921528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 Photographie pour les phénomènes (relativement) 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s vidéo pour les phénomènes rapides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idéo nativ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 .mov (Quick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chantillonnage : 20, 25, 50 im.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veView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 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chantillonnage : ~20 im.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Quel mode de prise de vue choisir 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6040" y="1135080"/>
            <a:ext cx="7010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360" y="1477440"/>
            <a:ext cx="5183280" cy="54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apteur est une matrice de pixels recouvert d'un masque de B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solution d'une image vidéo étant très inférieure à celle du capteur, seule une partie des pixels est tra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image couleur est obtenue en interpolant pour chaque pixel, les 2 couleurs manqu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mages sont plus (H 264) ou moins (M-JPEG) compressées pour générer le flux vidéo qui sera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44000" y="50760"/>
            <a:ext cx="5545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Génération du flux vidé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60360" y="1477440"/>
            <a:ext cx="5183280" cy="54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apteur est une matrice de pixels recouvert d'un masque de B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solution d'une image vidéo étant très inférieure à celle du capteur, seule une partie des pixels est tra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image couleur est obtenue en interpolant pour chaque pixel, les 2 couleurs manqu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mages sont plus (H 264) ou moins (M-JPEG) compressées pour générer le flux vidéo qui sera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44000" y="50760"/>
            <a:ext cx="5545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Génération du flux vidé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89440" y="0"/>
            <a:ext cx="441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Le problème de l'obt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202440" y="1455840"/>
            <a:ext cx="3085920" cy="2719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60360" y="1477800"/>
            <a:ext cx="46800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ne cadence de 20 images par seconde est incompatible avec les contraintes d'un obturateur méca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n mode vidéo, l'obturateur reste ouvert et le capteur se comporte comme un obturateur électronique « glissant » (rolling shut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haque ligne ne capture pas exactement la même image,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 ce qui ce traduit par des distorsions de celle-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472000" y="1547640"/>
            <a:ext cx="431964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Le problème de l'obt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02440" y="1455840"/>
            <a:ext cx="3085920" cy="2719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292720" y="4281480"/>
            <a:ext cx="4680000" cy="3135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60360" y="1477800"/>
            <a:ext cx="46800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ne cadence de 20 images par seconde est incompatible avec les contraintes d'un obturateur méca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n mode vidéo, l'obturateur reste ouvert et le capteur se comporte comme un obturateur électronique « glissant » (rolling shut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29052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haque ligne ne capture pas exactement la même image, ce qui ce traduit par des distorsions de celle-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472000" y="1547640"/>
            <a:ext cx="431964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3280" y="1371240"/>
            <a:ext cx="899784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5000"/>
          </a:bodyPr>
          <a:p>
            <a:pPr marL="458640" indent="-458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080" indent="-411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ibrer la cadence du flux vidéo enregistré afin de mettre en évidence les éventuelles problèmes de dérive ou de gig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ncipe de la mesur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4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411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surer (en nombre de trames) l'écart entre les flashs lumin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411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chaque flash on utilisera la première trame de chaque flash dont la valeur est supérieure à un seuil fixé arbitrairement à 5% de la dynamique to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520" indent="-411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vidéo est analysée avec Tangra 3. Les valeurs mesurées sont exportées, puis traitées avec ex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  <a:ea typeface="Microsoft YaHei"/>
              </a:rPr>
              <a:t>Résolution temporelle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0520" y="3129120"/>
            <a:ext cx="9144000" cy="1950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584360" y="3132000"/>
            <a:ext cx="16905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5000b"/>
                </a:solidFill>
                <a:latin typeface="Arial"/>
              </a:rPr>
              <a:t>Période : 1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c5000b"/>
                </a:solidFill>
                <a:latin typeface="Arial"/>
              </a:rPr>
              <a:t>Pulse : 100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31640" y="1371600"/>
            <a:ext cx="914400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39640" indent="-539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n mode LiveVie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484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tesse d'enregistrement &lt; à la cadence réelle du LiveView (~22 im./s versus 30 im./s [données constructeur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5600" indent="-484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 de dérive, mais une gigue d'environ 0,7 trames par rapport à la moyenne (entre 0,47 et 0,9 suivant les séqu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539640"/>
                <a:tab algn="l" pos="644400"/>
                <a:tab algn="l" pos="1093680"/>
                <a:tab algn="l" pos="1542960"/>
                <a:tab algn="l" pos="1992240"/>
                <a:tab algn="l" pos="2441520"/>
                <a:tab algn="l" pos="2890800"/>
                <a:tab algn="l" pos="3340080"/>
                <a:tab algn="l" pos="3789360"/>
                <a:tab algn="l" pos="4238640"/>
                <a:tab algn="l" pos="4687920"/>
                <a:tab algn="l" pos="5137200"/>
                <a:tab algn="l" pos="5586480"/>
                <a:tab algn="l" pos="6035760"/>
                <a:tab algn="l" pos="6485040"/>
                <a:tab algn="l" pos="6934320"/>
                <a:tab algn="l" pos="7383600"/>
                <a:tab algn="l" pos="7832880"/>
                <a:tab algn="l" pos="8282160"/>
                <a:tab algn="l" pos="8731080"/>
                <a:tab algn="l" pos="9180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te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Ce résultat est comparable à ce que l'on observe avec une CCD interfacée en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  <a:ea typeface="Microsoft YaHei"/>
              </a:rPr>
              <a:t>Résolution temporelle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40360" y="3398760"/>
            <a:ext cx="5040360" cy="2746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3348000"/>
            <a:ext cx="504036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3280" y="1371240"/>
            <a:ext cx="899784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dence moyenne mesu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adence fournie par les outils d'analyse vidéo (vidéo inspector, gspot, etc...) : Écart &lt; 0,1 t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taines trames semblent dupliquées - 2 trames consécutives avec la même valeur, ce qui augmente l'erreur de résolution (+/- 2 trames, soit +/- 100 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Cette répétition n'est pas observée avec une C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s résultats sont identiques quelques soit le temps de pose choisi (&lt; ou &gt;  à la cadence de 30 im.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ensemble de ces observations nous amènent à aa conclusion que l'élément perturbateur est très probablement le transfert du flux vidéo via USB et son enregistrement par le PC et non pas l'APN lui-mê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4240" indent="-5342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En mode vidéo natif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n'observe aucune différence (ni dérive, ni gigue) entre la cadence mesurée et la cadence réelle affichée sur l'APN (20 im./s, 24 im./s [23,976], 25 im./s, 30 im./s [29,97], 50 im./s, 60 im./s [59,94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cune duplication de trames n'a été obser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720" indent="-4791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55600"/>
                <a:tab algn="l" pos="1309680"/>
                <a:tab algn="l" pos="1758960"/>
                <a:tab algn="l" pos="2208240"/>
                <a:tab algn="l" pos="2657520"/>
                <a:tab algn="l" pos="3106800"/>
                <a:tab algn="l" pos="3556080"/>
                <a:tab algn="l" pos="4005360"/>
                <a:tab algn="l" pos="4454640"/>
                <a:tab algn="l" pos="4903920"/>
                <a:tab algn="l" pos="5353200"/>
                <a:tab algn="l" pos="5802480"/>
                <a:tab algn="l" pos="6251400"/>
                <a:tab algn="l" pos="6700680"/>
                <a:tab algn="l" pos="7149960"/>
                <a:tab algn="l" pos="7599240"/>
                <a:tab algn="l" pos="8048520"/>
                <a:tab algn="l" pos="8497800"/>
                <a:tab algn="l" pos="8947080"/>
                <a:tab algn="l" pos="9396360"/>
                <a:tab algn="l" pos="984564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erreur d'interpolation sera de +/- 0,5 trames (pour une cadence de 25 im./s, l'erreur sera de +/- 20 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50760"/>
            <a:ext cx="9360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  <a:ea typeface="Microsoft YaHei"/>
              </a:rPr>
              <a:t>Résolution temporelle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5:40:15Z</dcterms:created>
  <dc:creator>Christian Drillaud</dc:creator>
  <dc:description>Arrière-plan gris et couleurs froides</dc:description>
  <dc:language>en-US</dc:language>
  <cp:lastModifiedBy/>
  <cp:revision>1</cp:revision>
  <dc:subject/>
  <dc:title>Mer de glace</dc:title>
</cp:coreProperties>
</file>